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4C7-B62B-4651-89DF-9EEBF7B7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C62-27A2-4D0A-9CF1-20BFBB5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B3E-2554-4F9B-ADDD-AB136E44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F9F-EA48-4AA3-962F-23485531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3FF-41C3-4176-BEB0-409CB06A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A76-0A89-4352-8BC6-B12DA5AE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F8E-422B-4CA5-AF79-60CFAB7C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996-5D67-4890-A4CB-691572EB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A57-B4BA-430F-927A-6187FF5C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AAB-E0A5-4A61-9907-E7181695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9AA-7907-495E-9E30-349C7F5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6F9-7EEC-472C-88FA-D5989C5A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FEBFE-03AC-4BFC-BEB8-1FBB420E33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shire_cat_bouncing_md_wht" descr=""/>
          <p:cNvPicPr/>
          <p:nvPr/>
        </p:nvPicPr>
        <p:blipFill>
          <a:blip r:embed=""/>
          <a:stretch/>
        </p:blipFill>
        <p:spPr>
          <a:xfrm>
            <a:off x="3325680" y="2519280"/>
            <a:ext cx="3875400" cy="465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00360" y="720720"/>
            <a:ext cx="54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99ff"/>
                </a:solidFill>
                <a:latin typeface="Arial Black"/>
              </a:rPr>
              <a:t>ATIREI O PAU NO GATO TO - 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itty2" descr=""/>
          <p:cNvPicPr/>
          <p:nvPr/>
        </p:nvPicPr>
        <p:blipFill>
          <a:blip r:embed=""/>
          <a:stretch/>
        </p:blipFill>
        <p:spPr>
          <a:xfrm>
            <a:off x="1579680" y="2496960"/>
            <a:ext cx="5621400" cy="522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1079640"/>
            <a:ext cx="66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 Black"/>
              </a:rPr>
              <a:t>MAS O GATO NÃO MORREU  REU -R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andma" descr=""/>
          <p:cNvPicPr/>
          <p:nvPr/>
        </p:nvPicPr>
        <p:blipFill>
          <a:blip r:embed=""/>
          <a:stretch/>
        </p:blipFill>
        <p:spPr>
          <a:xfrm>
            <a:off x="1079640" y="3240000"/>
            <a:ext cx="6840360" cy="575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60360" y="720720"/>
            <a:ext cx="4140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 Black"/>
              </a:rPr>
              <a:t>DONA CHICA  ADMIROU -SE  SE -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60360" y="1440000"/>
            <a:ext cx="71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Arial Black"/>
              </a:rPr>
              <a:t>DO BERRO DO BERRO QUE O GATO DEU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79680" y="2879640"/>
            <a:ext cx="651672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79640" y="1619280"/>
            <a:ext cx="64389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8080"/>
                </a:solidFill>
                <a:latin typeface="Arial Black"/>
              </a:rPr>
              <a:t>MIAUUUUUUUUUUUUUUU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ATO%20RAPIDOif" descr=""/>
          <p:cNvPicPr/>
          <p:nvPr/>
        </p:nvPicPr>
        <p:blipFill>
          <a:blip r:embed=""/>
          <a:stretch/>
        </p:blipFill>
        <p:spPr>
          <a:xfrm>
            <a:off x="-225360" y="3862440"/>
            <a:ext cx="1066644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2:54:47Z</dcterms:created>
  <dc:creator/>
  <dc:description/>
  <dc:language>en-US</dc:language>
  <cp:lastModifiedBy/>
  <cp:revision>1</cp:revision>
  <dc:subject/>
  <dc:title/>
</cp:coreProperties>
</file>